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750-3AFA-4D45-8FC7-55A4432E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B0A-C1F4-484F-99A0-8C017455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292-68A2-49FB-8C6C-FD0B5730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DEE-1AE3-45E9-8FD9-55803DF8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1358-F6C8-471C-A6DC-CB6DD710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EED5-4330-4CEE-A25A-9FCAF84D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5549-F484-425B-8EE4-42CCF5FB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90A1-F45A-466A-BFEF-722A4F02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7E48-6C1F-4514-A80B-B4DB55A4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6B5C-0D28-47ED-8789-D6B82846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100B-15B8-4263-BB53-18A78137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022-C5A4-48DD-911D-04D88793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DE65-ACA7-4443-84A2-4B953D25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6050-CBBC-49D4-9B84-B784A04E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E804-9BCF-41B8-B067-079475BA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D284-5041-45B1-BA27-B0DC851C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91D0-7A7F-41AB-9EFB-79366B99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FE9A1-1BDD-4625-8B5B-9AB6071F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0A659-C9AA-4BE5-8C4D-7BA1E286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1F77E-C2A3-484A-9EE4-A626C095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65A9-6224-48BC-AD33-FA13D614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25209-01AA-4111-BC39-40F6A53E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3D4-6C07-4546-9980-02E5B598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D943-3662-416B-A4D4-F332A3F2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53FD-5D47-43D8-BFE2-51F6E9F5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851D1-7F3D-424E-8F9B-CF37218A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15E1-91D4-4AFC-9149-C83006C1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0EFD-4D91-4BBB-836D-95FB8ADB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83FC-2B2C-490A-A28F-7D757623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9BDB-DE0A-42E8-9339-ABAA582E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AFECD-D3E3-4C04-9F82-00F31484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D460-812D-473C-896C-780E07BC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B0C1D-2FEA-4465-AD2A-604A26D8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E65-1F6B-4DC3-82F0-559EF4F0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FF02-14A5-4C28-8C99-4DB1B771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0ED7-7490-4A9D-B6E6-F4EF02FB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8DA37-FD11-45BC-8338-E51A3D48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632B1-BA9A-4E20-944F-9B833E22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AF05F-A3AE-49CC-B367-E201736C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7EBC-5458-4D69-9718-DB8C477A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3175A-C07E-4A26-AF11-58D6870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D334B-DFA6-4486-A292-A817BBDB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B906-2738-4DC4-B7B0-8F7B1872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3AAAC-D1B9-4F1B-AA1D-B3FB4778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AD5-1D0B-4A8A-B37D-35F9B999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57F1-B0DC-4616-B6EA-06D71783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D5896-F881-4ECF-AD7A-0CCBE658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8C8D4-603F-4B78-931A-0E4B1AA3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4E3DF-BAD4-4D3B-93AC-3BD2B8BB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37FE8-CD00-4C34-BF21-80889295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7A4FA-3299-4EDF-A61F-B80878C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3676-E6FB-4DF4-8497-F268C22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80B1-5787-46E9-9701-A7FE7182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4C027-3882-47B9-B536-1CD4E600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13D7D-61F8-4B0F-8C71-212C32FA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3CE-9F9F-4237-A342-D2AD8C73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CA45E-1D9A-4606-820E-725EF7F1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9A7B2-DCEA-4D7E-B4B3-9BEFF7A3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9AC5A-A2A6-440E-BC51-7E5D89B9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0530F-0540-450C-A1B9-42DF7A69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451C5-BECC-440A-B3D2-7DC3185D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1B520-E5F9-4BD7-A37F-E2CC5DD9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D5C2C-D773-4EB2-8F2D-23744017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67921-2AB6-4FFD-9EEE-318B8D0A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79FF-441F-4795-96CB-E7268D9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F51E8-9470-4AF0-B6AC-DDBF9F08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0B9-B204-4574-A7DF-C83CA75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7F2D1-3735-4BD0-A3C3-2EF996B6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F9586-ADFD-4FBB-B4DB-962B3606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4B77A-2BE2-413A-8835-BCE7514A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099B-D2FF-4F4E-8992-16EFCD3F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6AA81-1DFF-43D4-ABA2-76FC1B13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F55D0-7FC0-4E7A-8A53-7BC53B69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D2020-52BF-44AD-B91D-AE4142A0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2E7FB-0DD6-4767-B26D-EE14298F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8B0CD-DF09-4579-97D1-07023F96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B14D-2F59-4F1A-9190-1DBF841F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FF5-FA13-46BD-B0D7-88424E4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D0608-59FD-4601-A34B-88723EFC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93B53-3BC1-43F8-A560-67B49CAD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A5594-C785-46D7-BC7A-B8FB5194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3F3FA-5D93-4A96-9D02-FB85EE5C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8D59C-E72D-4BD1-BAA8-7BF8150A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9B0-5E7E-4BE1-BA63-5D166EF4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04AE-50F2-4A55-A480-E1D5B1AAA1A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588E-4967-41D7-B985-40E0820BBAE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C7F0-059D-4FD5-8D5D-B22D203D199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9A3D-7A3A-4586-95D2-726766F4CB5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E699-F4C1-4760-A3CE-81ED63E82A1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AA56-D75C-47DA-81D1-0EF1C848258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FF0E-CEAF-4991-83C1-DCFB7EC85C1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95B1-CBF0-4B4A-A9D4-996C81E1F7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F407-B00E-49A1-9585-466CE64C70D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2EFB-9333-4704-9B47-DF5ED84B69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FF3D-2227-43BE-8E59-6368190FE89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8EF6-A0F8-4220-B9D8-E76612554E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0370-B99D-439D-96E2-27D8E571E09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83C4-1682-46FE-B42A-155EE37D1F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285840"/>
            <a:ext cx="74070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Arial Black"/>
              </a:rPr>
              <a:t>МБОУ СОШ № 54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143320" y="5785920"/>
            <a:ext cx="3571560" cy="81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Arial Black"/>
              </a:rPr>
              <a:t>Презентацию подготовил учитель биологи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Arial Black"/>
              </a:rPr>
              <a:t>Кошадских Наталья Андреевн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C:\Users\а\Pictures\начало слайда эволюция.jpg"/>
          <p:cNvPicPr/>
          <p:nvPr/>
        </p:nvPicPr>
        <p:blipFill>
          <a:blip r:embed="rId1"/>
          <a:stretch/>
        </p:blipFill>
        <p:spPr>
          <a:xfrm>
            <a:off x="1571760" y="714240"/>
            <a:ext cx="721044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232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Arial Black"/>
              </a:rPr>
              <a:t>Основные критерии развития человека разумного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Picture 3" descr="C:\Users\а\Pictures\отряд человек разумный.jpg"/>
          <p:cNvPicPr/>
          <p:nvPr/>
        </p:nvPicPr>
        <p:blipFill>
          <a:blip r:embed="rId1"/>
          <a:stretch/>
        </p:blipFill>
        <p:spPr>
          <a:xfrm>
            <a:off x="1214280" y="928800"/>
            <a:ext cx="7572600" cy="5500440"/>
          </a:xfrm>
          <a:prstGeom prst="rect">
            <a:avLst/>
          </a:prstGeom>
          <a:ln w="0">
            <a:noFill/>
          </a:ln>
        </p:spPr>
      </p:pic>
      <p:sp>
        <p:nvSpPr>
          <p:cNvPr id="343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D097-6693-4BFB-95AE-7C66F1949C2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C:\Users\а\Pictures\чел разумный характеристики.jpg"/>
          <p:cNvPicPr/>
          <p:nvPr/>
        </p:nvPicPr>
        <p:blipFill>
          <a:blip r:embed="rId1"/>
          <a:stretch/>
        </p:blipFill>
        <p:spPr>
          <a:xfrm>
            <a:off x="1500120" y="0"/>
            <a:ext cx="7286760" cy="6429240"/>
          </a:xfrm>
          <a:prstGeom prst="rect">
            <a:avLst/>
          </a:prstGeom>
          <a:ln w="0">
            <a:noFill/>
          </a:ln>
        </p:spPr>
      </p:pic>
      <p:sp>
        <p:nvSpPr>
          <p:cNvPr id="345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F002-C1F4-45AD-BA9C-4C4544EA24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C:\Users\а\Pictures\современый человек.jpg"/>
          <p:cNvPicPr/>
          <p:nvPr/>
        </p:nvPicPr>
        <p:blipFill>
          <a:blip r:embed="rId1"/>
          <a:stretch/>
        </p:blipFill>
        <p:spPr>
          <a:xfrm>
            <a:off x="214200" y="285840"/>
            <a:ext cx="4929480" cy="3697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C:\Users\а\Pictures\кроманьонец.jpg"/>
          <p:cNvPicPr/>
          <p:nvPr/>
        </p:nvPicPr>
        <p:blipFill>
          <a:blip r:embed="rId2"/>
          <a:stretch/>
        </p:blipFill>
        <p:spPr>
          <a:xfrm>
            <a:off x="4357800" y="3125880"/>
            <a:ext cx="4564080" cy="3422520"/>
          </a:xfrm>
          <a:prstGeom prst="rect">
            <a:avLst/>
          </a:prstGeom>
          <a:ln w="0">
            <a:noFill/>
          </a:ln>
        </p:spPr>
      </p:pic>
      <p:sp>
        <p:nvSpPr>
          <p:cNvPr id="348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C0E7-691B-4C1B-9085-A2242CA9DC5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C:\Users\а\Pictures\чел. разумный.jpg"/>
          <p:cNvPicPr/>
          <p:nvPr/>
        </p:nvPicPr>
        <p:blipFill>
          <a:blip r:embed="rId1"/>
          <a:stretch/>
        </p:blipFill>
        <p:spPr>
          <a:xfrm>
            <a:off x="1214280" y="214200"/>
            <a:ext cx="7572600" cy="6072480"/>
          </a:xfrm>
          <a:prstGeom prst="rect">
            <a:avLst/>
          </a:prstGeom>
          <a:ln w="0">
            <a:noFill/>
          </a:ln>
        </p:spPr>
      </p:pic>
      <p:sp>
        <p:nvSpPr>
          <p:cNvPr id="350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28AE-C9FA-4244-B9E1-53FF07C5302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C:\Users\а\Pictures\факторы и вывод по чеолвеку разумному..jpg"/>
          <p:cNvPicPr/>
          <p:nvPr/>
        </p:nvPicPr>
        <p:blipFill>
          <a:blip r:embed="rId1"/>
          <a:stretch/>
        </p:blipFill>
        <p:spPr>
          <a:xfrm>
            <a:off x="1357200" y="357120"/>
            <a:ext cx="7429680" cy="6072120"/>
          </a:xfrm>
          <a:prstGeom prst="rect">
            <a:avLst/>
          </a:prstGeom>
          <a:ln w="0">
            <a:noFill/>
          </a:ln>
        </p:spPr>
      </p:pic>
      <p:sp>
        <p:nvSpPr>
          <p:cNvPr id="352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2250-96CA-4761-AEAD-7FCF8441794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Arial Black"/>
              </a:rPr>
              <a:t>Подведение итогов и выводов по уроку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Picture 2" descr="C:\Users\а\Pictures\закрепление изученного мат-ла.jpg"/>
          <p:cNvPicPr/>
          <p:nvPr/>
        </p:nvPicPr>
        <p:blipFill>
          <a:blip r:embed="rId1"/>
          <a:stretch/>
        </p:blipFill>
        <p:spPr>
          <a:xfrm>
            <a:off x="285840" y="1093680"/>
            <a:ext cx="6643440" cy="4407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C:\Users\а\Pictures\закрепление мат-ла.jpg"/>
          <p:cNvPicPr/>
          <p:nvPr/>
        </p:nvPicPr>
        <p:blipFill>
          <a:blip r:embed="rId2"/>
          <a:stretch/>
        </p:blipFill>
        <p:spPr>
          <a:xfrm>
            <a:off x="4786200" y="3929040"/>
            <a:ext cx="4143600" cy="2662200"/>
          </a:xfrm>
          <a:prstGeom prst="rect">
            <a:avLst/>
          </a:prstGeom>
          <a:ln w="0">
            <a:noFill/>
          </a:ln>
        </p:spPr>
      </p:pic>
      <p:sp>
        <p:nvSpPr>
          <p:cNvPr id="356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CA1C-7118-4F98-8DA6-FAEF1A96F34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066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Arial Black"/>
              </a:rPr>
              <a:t>Выводы: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8" name="Picture 2" descr="C:\Users\а\Pictures\появление чел..jpg"/>
          <p:cNvPicPr/>
          <p:nvPr/>
        </p:nvPicPr>
        <p:blipFill>
          <a:blip r:embed="rId1"/>
          <a:stretch/>
        </p:blipFill>
        <p:spPr>
          <a:xfrm>
            <a:off x="1523880" y="1143000"/>
            <a:ext cx="7334280" cy="5429160"/>
          </a:xfrm>
          <a:prstGeom prst="rect">
            <a:avLst/>
          </a:prstGeom>
          <a:ln w="0">
            <a:noFill/>
          </a:ln>
        </p:spPr>
      </p:pic>
      <p:sp>
        <p:nvSpPr>
          <p:cNvPr id="35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CA2D-AFF6-433D-8E12-E755A0F4FFD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C:\Users\а\Pictures\приматы последов..jpg"/>
          <p:cNvPicPr/>
          <p:nvPr/>
        </p:nvPicPr>
        <p:blipFill>
          <a:blip r:embed="rId1"/>
          <a:stretch/>
        </p:blipFill>
        <p:spPr>
          <a:xfrm>
            <a:off x="1285920" y="1214280"/>
            <a:ext cx="7572240" cy="49294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1714680" y="428760"/>
            <a:ext cx="69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крепление изуч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5A47-713B-4611-9213-BCD3018CD39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Прямоугольник 3" descr=""/>
          <p:cNvPicPr/>
          <p:nvPr/>
        </p:nvPicPr>
        <p:blipFill>
          <a:blip r:embed="rId1"/>
          <a:stretch/>
        </p:blipFill>
        <p:spPr>
          <a:xfrm>
            <a:off x="1225440" y="1968480"/>
            <a:ext cx="7650360" cy="110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C:\Users\а\Pictures\начало эволюции.jpg"/>
          <p:cNvPicPr/>
          <p:nvPr/>
        </p:nvPicPr>
        <p:blipFill>
          <a:blip r:embed="rId2"/>
          <a:stretch/>
        </p:blipFill>
        <p:spPr>
          <a:xfrm>
            <a:off x="2000160" y="3571920"/>
            <a:ext cx="5905440" cy="2847960"/>
          </a:xfrm>
          <a:prstGeom prst="rect">
            <a:avLst/>
          </a:prstGeom>
          <a:ln w="0">
            <a:noFill/>
          </a:ln>
        </p:spPr>
      </p:pic>
      <p:sp>
        <p:nvSpPr>
          <p:cNvPr id="365" name="Номер слайда 7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BA16-0774-4A2C-A7BB-0D53CC0EA01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Arial Black"/>
              </a:rPr>
              <a:t>План урока: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Picture 2" descr="C:\Users\а\Pictures\нач. урока чел разумный.jpg"/>
          <p:cNvPicPr/>
          <p:nvPr/>
        </p:nvPicPr>
        <p:blipFill>
          <a:blip r:embed="rId1"/>
          <a:stretch/>
        </p:blipFill>
        <p:spPr>
          <a:xfrm>
            <a:off x="1285920" y="1143000"/>
            <a:ext cx="7429320" cy="5072040"/>
          </a:xfrm>
          <a:prstGeom prst="rect">
            <a:avLst/>
          </a:prstGeom>
          <a:ln w="0">
            <a:noFill/>
          </a:ln>
        </p:spPr>
      </p:pic>
      <p:sp>
        <p:nvSpPr>
          <p:cNvPr id="323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2862-EBC0-4A96-8B77-7D7E53DF195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Users\а\Pictures\начало эволюции.jpg"/>
          <p:cNvPicPr/>
          <p:nvPr/>
        </p:nvPicPr>
        <p:blipFill>
          <a:blip r:embed="rId1"/>
          <a:stretch/>
        </p:blipFill>
        <p:spPr>
          <a:xfrm>
            <a:off x="2286000" y="428760"/>
            <a:ext cx="5905440" cy="2847960"/>
          </a:xfrm>
          <a:prstGeom prst="rect">
            <a:avLst/>
          </a:prstGeom>
          <a:ln w="0">
            <a:noFill/>
          </a:ln>
        </p:spPr>
      </p:pic>
      <p:sp>
        <p:nvSpPr>
          <p:cNvPr id="325" name="TextBox 5"/>
          <p:cNvSpPr/>
          <p:nvPr/>
        </p:nvSpPr>
        <p:spPr>
          <a:xfrm>
            <a:off x="1785960" y="407196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ак вы думаите , что может означать эта карти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6BFC-92A8-4B88-AEBF-FB5207D2CC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Users\а\Pictures\антропогинез человека.jpg"/>
          <p:cNvPicPr/>
          <p:nvPr/>
        </p:nvPicPr>
        <p:blipFill>
          <a:blip r:embed="rId1"/>
          <a:stretch/>
        </p:blipFill>
        <p:spPr>
          <a:xfrm>
            <a:off x="428760" y="214200"/>
            <a:ext cx="8501040" cy="5946840"/>
          </a:xfrm>
          <a:prstGeom prst="rect">
            <a:avLst/>
          </a:prstGeom>
          <a:ln w="0">
            <a:noFill/>
          </a:ln>
        </p:spPr>
      </p:pic>
      <p:sp>
        <p:nvSpPr>
          <p:cNvPr id="328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B619-23C5-42C2-8E75-5F1C169F6A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Arial Black"/>
              </a:rPr>
              <a:t>Классификация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2" descr="C:\Users\а\Pictures\классификация человека.jpg"/>
          <p:cNvPicPr/>
          <p:nvPr/>
        </p:nvPicPr>
        <p:blipFill>
          <a:blip r:embed="rId1"/>
          <a:stretch/>
        </p:blipFill>
        <p:spPr>
          <a:xfrm>
            <a:off x="1336680" y="1000080"/>
            <a:ext cx="7577280" cy="5572080"/>
          </a:xfrm>
          <a:prstGeom prst="rect">
            <a:avLst/>
          </a:prstGeom>
          <a:ln w="0">
            <a:noFill/>
          </a:ln>
        </p:spPr>
      </p:pic>
      <p:sp>
        <p:nvSpPr>
          <p:cNvPr id="331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683F-C05B-4D79-952C-C0E1479B1B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C:\Users\а\Pictures\ступенги развития эволюции.jpg"/>
          <p:cNvPicPr/>
          <p:nvPr/>
        </p:nvPicPr>
        <p:blipFill>
          <a:blip r:embed="rId1"/>
          <a:stretch/>
        </p:blipFill>
        <p:spPr>
          <a:xfrm>
            <a:off x="1285920" y="571680"/>
            <a:ext cx="7572240" cy="5748120"/>
          </a:xfrm>
          <a:prstGeom prst="rect">
            <a:avLst/>
          </a:prstGeom>
          <a:ln w="0">
            <a:noFill/>
          </a:ln>
        </p:spPr>
      </p:pic>
      <p:sp>
        <p:nvSpPr>
          <p:cNvPr id="333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238F-8601-45E5-BD72-7B8EFD01A42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C:\Users\а\Pictures\этапы эволюции.jpg"/>
          <p:cNvPicPr/>
          <p:nvPr/>
        </p:nvPicPr>
        <p:blipFill>
          <a:blip r:embed="rId1"/>
          <a:stretch/>
        </p:blipFill>
        <p:spPr>
          <a:xfrm>
            <a:off x="1214280" y="285840"/>
            <a:ext cx="7699680" cy="6286320"/>
          </a:xfrm>
          <a:prstGeom prst="rect">
            <a:avLst/>
          </a:prstGeom>
          <a:ln w="0">
            <a:noFill/>
          </a:ln>
        </p:spPr>
      </p:pic>
      <p:sp>
        <p:nvSpPr>
          <p:cNvPr id="335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E927-06C8-4084-83E8-DE835476A1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:\Users\а\Pictures\эволюция человек.jpg"/>
          <p:cNvPicPr/>
          <p:nvPr/>
        </p:nvPicPr>
        <p:blipFill>
          <a:blip r:embed="rId1"/>
          <a:stretch/>
        </p:blipFill>
        <p:spPr>
          <a:xfrm>
            <a:off x="214200" y="0"/>
            <a:ext cx="5286600" cy="3967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C:\Users\а\Pictures\древо эволюции.jpg"/>
          <p:cNvPicPr/>
          <p:nvPr/>
        </p:nvPicPr>
        <p:blipFill>
          <a:blip r:embed="rId2"/>
          <a:stretch/>
        </p:blipFill>
        <p:spPr>
          <a:xfrm>
            <a:off x="4500720" y="1714680"/>
            <a:ext cx="4357440" cy="4862160"/>
          </a:xfrm>
          <a:prstGeom prst="rect">
            <a:avLst/>
          </a:prstGeom>
          <a:ln w="0">
            <a:noFill/>
          </a:ln>
        </p:spPr>
      </p:pic>
      <p:sp>
        <p:nvSpPr>
          <p:cNvPr id="338" name="Номер слайда 8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BFD2-C1AD-4B65-AA9D-DF62964A24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C:\Users\а\Pictures\представители людей.jpg"/>
          <p:cNvPicPr/>
          <p:nvPr/>
        </p:nvPicPr>
        <p:blipFill>
          <a:blip r:embed="rId1"/>
          <a:stretch/>
        </p:blipFill>
        <p:spPr>
          <a:xfrm>
            <a:off x="1357200" y="214200"/>
            <a:ext cx="7577280" cy="6429600"/>
          </a:xfrm>
          <a:prstGeom prst="rect">
            <a:avLst/>
          </a:prstGeom>
          <a:ln w="0">
            <a:noFill/>
          </a:ln>
        </p:spPr>
      </p:pic>
      <p:sp>
        <p:nvSpPr>
          <p:cNvPr id="340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08AE-7BB1-48FB-9930-689F29A8D0B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7T18:37:42Z</dcterms:created>
  <dc:creator>а</dc:creator>
  <dc:description/>
  <dc:language>en-US</dc:language>
  <cp:lastModifiedBy>Наталья</cp:lastModifiedBy>
  <dcterms:modified xsi:type="dcterms:W3CDTF">2025-01-30T12:56:43Z</dcterms:modified>
  <cp:revision>9</cp:revision>
  <dc:subject/>
  <dc:title>МБОУ СОШ № 55</dc:title>
</cp:coreProperties>
</file>