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0D5B-2AD4-410D-A38C-B55B1489E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64CE-6ABD-4BC9-8DC8-30ECE6DC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C271-D7BC-4812-BEBE-9FD4B8734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818F-91F4-4104-9DB3-5C0040742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869D-2110-42E0-BEEA-C829DE28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FD5A-0DA3-4366-A4AA-A7F5D147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6DD1-55DC-44CA-A9F2-3D813A61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5842-A5AD-4B87-9169-45E98014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08F4-70C0-40C9-A30E-38995DE6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54B1-8395-4A9F-9397-538D900E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A533-4402-4591-91F1-487E876C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F39B-5568-46EE-A5FC-B28495C4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E95F-5687-4118-8EB9-3A3D484FE5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8000"/>
                </a:solidFill>
                <a:latin typeface="Times New Roman"/>
              </a:rPr>
              <a:t>Разделительные Ь и Ъ знаки</a:t>
            </a:r>
            <a:endParaRPr b="0" lang="en-US" sz="7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Рисунок 5" descr="736443955.png"/>
          <p:cNvPicPr/>
          <p:nvPr/>
        </p:nvPicPr>
        <p:blipFill>
          <a:blip r:embed="rId1"/>
          <a:stretch/>
        </p:blipFill>
        <p:spPr>
          <a:xfrm>
            <a:off x="1692360" y="3933720"/>
            <a:ext cx="1942920" cy="177192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6" descr="0_5dc6d_efe69912_L.jpg.png"/>
          <p:cNvPicPr/>
          <p:nvPr/>
        </p:nvPicPr>
        <p:blipFill>
          <a:blip r:embed="rId2"/>
          <a:stretch/>
        </p:blipFill>
        <p:spPr>
          <a:xfrm>
            <a:off x="5580000" y="4005360"/>
            <a:ext cx="1656000" cy="17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Object 2"/>
          <p:cNvGraphicFramePr/>
          <p:nvPr/>
        </p:nvGraphicFramePr>
        <p:xfrm>
          <a:off x="230040" y="404640"/>
          <a:ext cx="8663040" cy="603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404640"/>
                    <a:ext cx="8663040" cy="603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Object 2"/>
          <p:cNvGraphicFramePr/>
          <p:nvPr/>
        </p:nvGraphicFramePr>
        <p:xfrm>
          <a:off x="311040" y="476280"/>
          <a:ext cx="8521920" cy="59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040" y="476280"/>
                    <a:ext cx="852192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25-01-27T15:06:06Z</dcterms:modified>
  <cp:revision>3</cp:revision>
  <dc:subject/>
  <dc:title>PowerPoint Presentation</dc:title>
</cp:coreProperties>
</file>