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type.wav" ContentType="audio/x-wav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5632-0E14-4470-8BB6-6D8674F088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F865-485E-458A-9935-CD761324B9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3D1-377C-49E0-95D5-6A886ED1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B18-FEA8-4CBE-809F-CE51F1C4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2D4-1487-49D0-9975-0FB825D7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6A5-F688-4BBB-BE80-899D8AC6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F709-32F4-4735-A976-7027534B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965B-4FB7-4E95-BD7D-AA97F85C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6DF8-41DD-483F-9B4B-05B46BE2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3503-E345-414D-ACCA-931DA551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560D-429D-43E7-80A8-832A0A4E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A51D-EF49-4FBE-B11A-917FF59A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2F1C-6A83-4B54-BC72-F9DD1BEE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1F3-B607-4486-9349-D6FB2DB5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6983-FBFA-4CBA-9C63-AEA0A87B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1D83-8F29-41E1-99E7-278B7281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1D5E-0D10-4EFB-B61E-BE05E67E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2732-D441-4E77-BB50-B01AA350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004F-273B-46FC-B1CB-6E70F5D9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FD8D7-0C5A-455C-A588-97AA320B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28966-D025-4011-9F2E-4366654C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38E70-B1C7-43D1-B4EC-5AD69DD2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1E796-00A4-473F-8AFF-5A826EDB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F9C3-7133-4F50-9884-387B7FFC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99A0-7962-4475-A83A-CA1C20B3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CAC6-9C2F-43B1-84DC-A8DAEF98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0B97F-B924-4A2B-9B43-D1B457F9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45248-F1CC-4E28-B6CD-783C865F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2CBB-3635-4E24-BE52-FEA65A5B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37290-259F-43BA-93A1-F6FBDC2E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8CD60-8D67-411A-88D1-C907AD44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4BD3D-07FE-4649-99E5-D29CA693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31E-5165-4690-BC26-BE5D5CF9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F50-0024-44B5-A55E-BCB1497F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D83-3086-431C-9EE7-499386CD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F2F-51EC-4E2C-A787-9F2244D6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BA78-B1ED-4ACD-96BF-E824F49B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B389-8DD7-4716-B7A3-666C5A9F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8C90-FEEE-4741-B1EB-C9BE8EDF80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A098-D024-41C5-B560-29098F2AC1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B9A0-AEE9-46B1-A5D2-D8C41DFFB8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post-42422-1219614139_thumb"/>
          <p:cNvPicPr/>
          <p:nvPr/>
        </p:nvPicPr>
        <p:blipFill>
          <a:blip r:embed="rId1"/>
          <a:srcRect l="0" t="5050" r="5027" b="12493"/>
          <a:stretch/>
        </p:blipFill>
        <p:spPr>
          <a:xfrm>
            <a:off x="5292720" y="3301920"/>
            <a:ext cx="3851280" cy="35560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2987640" y="134136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  <a:ea typeface="Arial"/>
              </a:rPr>
              <a:t>Части реч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07.mp3" descr=""/>
          <p:cNvPicPr/>
          <p:nvPr/>
        </p:nvPicPr>
        <p:blipFill>
          <a:blip r:embed="rId1"/>
          <a:stretch/>
        </p:blipFill>
        <p:spPr>
          <a:xfrm>
            <a:off x="7524720" y="4437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"/>
          <p:cNvSpPr/>
          <p:nvPr/>
        </p:nvSpPr>
        <p:spPr>
          <a:xfrm>
            <a:off x="382680" y="414360"/>
            <a:ext cx="6781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едложении на служ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адежом всегда он в дружб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его показы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слова все связыв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8" descr="mult59"/>
          <p:cNvPicPr/>
          <p:nvPr/>
        </p:nvPicPr>
        <p:blipFill>
          <a:blip r:embed="rId2"/>
          <a:srcRect l="16963" t="0" r="24002" b="0"/>
          <a:stretch/>
        </p:blipFill>
        <p:spPr>
          <a:xfrm>
            <a:off x="6254640" y="1963800"/>
            <a:ext cx="2889360" cy="48942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5"/>
          <p:cNvSpPr/>
          <p:nvPr/>
        </p:nvSpPr>
        <p:spPr>
          <a:xfrm>
            <a:off x="581040" y="3487680"/>
            <a:ext cx="3614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едло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5387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07.mp3" descr=""/>
          <p:cNvPicPr/>
          <p:nvPr/>
        </p:nvPicPr>
        <p:blipFill>
          <a:blip r:embed="rId1"/>
          <a:stretch/>
        </p:blipFill>
        <p:spPr>
          <a:xfrm>
            <a:off x="7524720" y="4437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1"/>
          <p:cNvSpPr/>
          <p:nvPr/>
        </p:nvSpPr>
        <p:spPr>
          <a:xfrm>
            <a:off x="382680" y="414360"/>
            <a:ext cx="6781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ять и связывать стараю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равных и неравных в нужный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ою я совсем не повторяю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ою повторяюсь много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8" descr="mult59"/>
          <p:cNvPicPr/>
          <p:nvPr/>
        </p:nvPicPr>
        <p:blipFill>
          <a:blip r:embed="rId2"/>
          <a:srcRect l="16963" t="0" r="24002" b="0"/>
          <a:stretch/>
        </p:blipFill>
        <p:spPr>
          <a:xfrm>
            <a:off x="6254640" y="1963800"/>
            <a:ext cx="2889360" cy="48942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5"/>
          <p:cNvSpPr/>
          <p:nvPr/>
        </p:nvSpPr>
        <p:spPr>
          <a:xfrm>
            <a:off x="581040" y="3487680"/>
            <a:ext cx="3614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Сою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5387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07.mp3" descr=""/>
          <p:cNvPicPr/>
          <p:nvPr/>
        </p:nvPicPr>
        <p:blipFill>
          <a:blip r:embed="rId1"/>
          <a:stretch/>
        </p:blipFill>
        <p:spPr>
          <a:xfrm>
            <a:off x="7524720" y="4437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1"/>
          <p:cNvSpPr/>
          <p:nvPr/>
        </p:nvSpPr>
        <p:spPr>
          <a:xfrm>
            <a:off x="382680" y="41436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МОЛОДЦЫ!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mult59"/>
          <p:cNvPicPr/>
          <p:nvPr/>
        </p:nvPicPr>
        <p:blipFill>
          <a:blip r:embed="rId2"/>
          <a:srcRect l="16963" t="0" r="24002" b="0"/>
          <a:stretch/>
        </p:blipFill>
        <p:spPr>
          <a:xfrm>
            <a:off x="6254640" y="1963800"/>
            <a:ext cx="2889360" cy="4894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sari"/>
          <p:cNvPicPr/>
          <p:nvPr/>
        </p:nvPicPr>
        <p:blipFill>
          <a:blip r:embed="rId3"/>
          <a:stretch/>
        </p:blipFill>
        <p:spPr>
          <a:xfrm>
            <a:off x="2771640" y="2133720"/>
            <a:ext cx="1333800" cy="1895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 (366x515, 7Kb)"/>
          <p:cNvPicPr/>
          <p:nvPr/>
        </p:nvPicPr>
        <p:blipFill>
          <a:blip r:embed="rId4"/>
          <a:stretch/>
        </p:blipFill>
        <p:spPr>
          <a:xfrm>
            <a:off x="1900080" y="3554280"/>
            <a:ext cx="168768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5387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c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3"/>
          <p:cNvSpPr txBox="1"/>
          <p:nvPr/>
        </p:nvSpPr>
        <p:spPr>
          <a:xfrm rot="21440400">
            <a:off x="3851280" y="836640"/>
            <a:ext cx="3457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у, что,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бята!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верим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ши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нания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84360" y="189000"/>
            <a:ext cx="7561080" cy="792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Тес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"/>
          <p:cNvSpPr/>
          <p:nvPr/>
        </p:nvSpPr>
        <p:spPr>
          <a:xfrm>
            <a:off x="525600" y="1557360"/>
            <a:ext cx="8367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1. Что обозначает имя существительно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а) предмет б) признак предмета в) действие предм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2. Что обозначает имя прилагательно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а) предмет б) признак предмета в) действие предм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3. Что обозначает глаго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а) предмет б) признак предмета в) действие предм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4. Из данных слов выберите имена существительны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а) светлый, добрый б) бегать, играть в) солнце, с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5. Из данных слов выберите имена  прилагательны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а) светлый, добрый б) бегать, играть в) солнце, с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6. Из данных слов выберите глагол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а) светлый, добрый б) бегать, играть в) солнце, с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7. Из данных слов выберите самостоятельные части ре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а) дом, мама, весёлый б) бегать, но, из в) я, около, вч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8. Из данных слов выберите служебные части ре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а)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меч, из, красиво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б)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и, не, да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)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дверь, звезда, дум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2"/>
          <p:cNvSpPr/>
          <p:nvPr/>
        </p:nvSpPr>
        <p:spPr>
          <a:xfrm>
            <a:off x="4788000" y="222120"/>
            <a:ext cx="2376360" cy="1838520"/>
          </a:xfrm>
          <a:prstGeom prst="rect">
            <a:avLst/>
          </a:prstGeom>
          <a:solidFill>
            <a:srgbClr val="33339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5"/>
          <p:cNvSpPr/>
          <p:nvPr/>
        </p:nvSpPr>
        <p:spPr>
          <a:xfrm>
            <a:off x="4788000" y="22212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проверка по   ключ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 – а      5 –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 – б      6 – 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 – в      7 –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 – в      8 -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3635280" y="5084640"/>
            <a:ext cx="237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ставление оценок за тес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т ошибок – «5» ,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-2 ошибки  - «4»,  3 -4 ошибки – «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Oval 9"/>
          <p:cNvSpPr/>
          <p:nvPr/>
        </p:nvSpPr>
        <p:spPr>
          <a:xfrm flipH="1">
            <a:off x="7448400" y="2349360"/>
            <a:ext cx="93672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mult58"/>
          <p:cNvPicPr/>
          <p:nvPr/>
        </p:nvPicPr>
        <p:blipFill>
          <a:blip r:embed="rId2"/>
          <a:srcRect l="14452" t="0" r="15553" b="0"/>
          <a:stretch/>
        </p:blipFill>
        <p:spPr>
          <a:xfrm>
            <a:off x="6261120" y="1557360"/>
            <a:ext cx="3206880" cy="458136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3"/>
          <p:cNvSpPr/>
          <p:nvPr/>
        </p:nvSpPr>
        <p:spPr>
          <a:xfrm>
            <a:off x="1476360" y="0"/>
            <a:ext cx="5184720" cy="2565360"/>
          </a:xfrm>
          <a:prstGeom prst="cloudCallout">
            <a:avLst>
              <a:gd name="adj1" fmla="val 63504"/>
              <a:gd name="adj2" fmla="val 40472"/>
            </a:avLst>
          </a:prstGeom>
          <a:gradFill rotWithShape="0">
            <a:gsLst>
              <a:gs pos="0">
                <a:srgbClr val="d5eaff"/>
              </a:gs>
              <a:gs pos="50000">
                <a:srgbClr val="ffffff"/>
              </a:gs>
              <a:gs pos="100000">
                <a:srgbClr val="d5ea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1979640" y="189000"/>
            <a:ext cx="47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ведение итогов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3708360" y="3573360"/>
            <a:ext cx="5113440" cy="2376720"/>
          </a:xfrm>
          <a:prstGeom prst="cloudCallout">
            <a:avLst>
              <a:gd name="adj1" fmla="val -57421"/>
              <a:gd name="adj2" fmla="val 44120"/>
            </a:avLst>
          </a:prstGeom>
          <a:gradFill rotWithShape="0">
            <a:gsLst>
              <a:gs pos="0">
                <a:srgbClr val="d5eaff"/>
              </a:gs>
              <a:gs pos="50000">
                <a:srgbClr val="ffffff"/>
              </a:gs>
              <a:gs pos="100000">
                <a:srgbClr val="d5ea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4140360" y="40766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определить, какой частью речи является сло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оц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Оцените свои зн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0000"/>
                </a:solidFill>
                <a:latin typeface="Calibri"/>
              </a:rPr>
              <a:t>«5»</a:t>
            </a:r>
            <a:r>
              <a:rPr b="0" lang="ru-RU" sz="3200" spc="-1" strike="noStrike">
                <a:solidFill>
                  <a:srgbClr val="e60000"/>
                </a:solidFill>
                <a:latin typeface="Calibri"/>
              </a:rPr>
              <a:t> - </a:t>
            </a:r>
            <a:r>
              <a:rPr b="1" i="1" lang="ru-RU" sz="3200" spc="-1" strike="noStrike">
                <a:solidFill>
                  <a:srgbClr val="e60000"/>
                </a:solidFill>
                <a:latin typeface="Calibri"/>
              </a:rPr>
              <a:t>Я всё понял(а) и могу объяснить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60000"/>
                </a:solidFill>
                <a:latin typeface="Calibri"/>
              </a:rPr>
              <a:t>          </a:t>
            </a:r>
            <a:r>
              <a:rPr b="1" i="1" lang="ru-RU" sz="3200" spc="-1" strike="noStrike">
                <a:solidFill>
                  <a:srgbClr val="e60000"/>
                </a:solidFill>
                <a:latin typeface="Calibri"/>
              </a:rPr>
              <a:t>друго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«4»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- 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Я понял(а), но не могу объяснить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друго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«3»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-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Я не понял(а) нич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mult57"/>
          <p:cNvPicPr/>
          <p:nvPr/>
        </p:nvPicPr>
        <p:blipFill>
          <a:blip r:embed="rId1"/>
          <a:srcRect l="0" t="27380" r="0" b="19096"/>
          <a:stretch/>
        </p:blipFill>
        <p:spPr>
          <a:xfrm>
            <a:off x="4362480" y="3618000"/>
            <a:ext cx="478152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D:\Documents and Settings\Администратор\Рабочий стол\картинки про школу\school11-14.gif"/>
          <p:cNvPicPr/>
          <p:nvPr/>
        </p:nvPicPr>
        <p:blipFill>
          <a:blip r:embed="rId1"/>
          <a:srcRect l="3364" t="0" r="5792" b="0"/>
          <a:stretch/>
        </p:blipFill>
        <p:spPr>
          <a:xfrm>
            <a:off x="0" y="0"/>
            <a:ext cx="6769080" cy="58816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971640" y="1166760"/>
            <a:ext cx="527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стретимся на следующем уроке! Пока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mult58"/>
          <p:cNvPicPr/>
          <p:nvPr/>
        </p:nvPicPr>
        <p:blipFill>
          <a:blip r:embed="rId2"/>
          <a:stretch/>
        </p:blipFill>
        <p:spPr>
          <a:xfrm>
            <a:off x="5651640" y="246528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3"/>
          <p:cNvSpPr/>
          <p:nvPr/>
        </p:nvSpPr>
        <p:spPr>
          <a:xfrm>
            <a:off x="3382920" y="476280"/>
            <a:ext cx="5761080" cy="3024000"/>
          </a:xfrm>
          <a:prstGeom prst="cloudCallout">
            <a:avLst>
              <a:gd name="adj1" fmla="val -53611"/>
              <a:gd name="adj2" fmla="val 54148"/>
            </a:avLst>
          </a:prstGeom>
          <a:gradFill rotWithShape="0">
            <a:gsLst>
              <a:gs pos="0">
                <a:srgbClr val="9797ff"/>
              </a:gs>
              <a:gs pos="50000">
                <a:srgbClr val="b9dcff"/>
              </a:gs>
              <a:gs pos="100000">
                <a:srgbClr val="9797ff"/>
              </a:gs>
            </a:gsLst>
            <a:lin ang="5400000"/>
          </a:gradFill>
          <a:ln w="2844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95280" y="1052640"/>
            <a:ext cx="4248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называется раздел науки о языке, изучающий слово как часть реч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kot-matroskin"/>
          <p:cNvPicPr/>
          <p:nvPr/>
        </p:nvPicPr>
        <p:blipFill>
          <a:blip r:embed="rId1"/>
          <a:stretch/>
        </p:blipFill>
        <p:spPr>
          <a:xfrm>
            <a:off x="-181080" y="1746360"/>
            <a:ext cx="3711600" cy="51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1" descr="dyadya-fedor-pes-1"/>
          <p:cNvPicPr/>
          <p:nvPr/>
        </p:nvPicPr>
        <p:blipFill>
          <a:blip r:embed="rId1"/>
          <a:stretch/>
        </p:blipFill>
        <p:spPr>
          <a:xfrm>
            <a:off x="1908000" y="2708280"/>
            <a:ext cx="5278680" cy="36576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2"/>
          <p:cNvSpPr/>
          <p:nvPr/>
        </p:nvSpPr>
        <p:spPr>
          <a:xfrm>
            <a:off x="2268360" y="333360"/>
            <a:ext cx="5543640" cy="2664000"/>
          </a:xfrm>
          <a:prstGeom prst="cloudCallout">
            <a:avLst>
              <a:gd name="adj1" fmla="val -35652"/>
              <a:gd name="adj2" fmla="val 12097"/>
            </a:avLst>
          </a:prstGeom>
          <a:gradFill rotWithShape="0">
            <a:gsLst>
              <a:gs pos="0">
                <a:srgbClr val="c2bffd"/>
              </a:gs>
              <a:gs pos="50000">
                <a:srgbClr val="ffffff"/>
              </a:gs>
              <a:gs pos="100000">
                <a:srgbClr val="c2bff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6800"/>
                </a:solidFill>
                <a:latin typeface="Arial"/>
              </a:rPr>
              <a:t>МОРФОЛОГИЯ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95400" y="2997360"/>
            <a:ext cx="3492360" cy="3673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мостоя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сти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Местои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Чис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Наре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5076720" y="3029040"/>
            <a:ext cx="3743280" cy="3673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ужеб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сти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Пред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Сою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Час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07.mp3" descr=""/>
          <p:cNvPicPr/>
          <p:nvPr/>
        </p:nvPicPr>
        <p:blipFill>
          <a:blip r:embed="rId1"/>
          <a:stretch/>
        </p:blipFill>
        <p:spPr>
          <a:xfrm>
            <a:off x="7524720" y="4437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1"/>
          <p:cNvSpPr/>
          <p:nvPr/>
        </p:nvSpPr>
        <p:spPr>
          <a:xfrm>
            <a:off x="382680" y="414360"/>
            <a:ext cx="6205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что существует, оно обознач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опросы КТО? и ЧТО? верно отвеч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чтоб не обижался весь честной нар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о всегда имеет и число, и 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него к тому же три склоненья е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дежей различных сразу целых ш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8" descr="mult59"/>
          <p:cNvPicPr/>
          <p:nvPr/>
        </p:nvPicPr>
        <p:blipFill>
          <a:blip r:embed="rId2"/>
          <a:srcRect l="16963" t="0" r="24002" b="0"/>
          <a:stretch/>
        </p:blipFill>
        <p:spPr>
          <a:xfrm>
            <a:off x="6254640" y="1963800"/>
            <a:ext cx="2889360" cy="48942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7"/>
          <p:cNvSpPr/>
          <p:nvPr/>
        </p:nvSpPr>
        <p:spPr>
          <a:xfrm>
            <a:off x="382680" y="5246640"/>
            <a:ext cx="534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мя существительн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5387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07.mp3" descr=""/>
          <p:cNvPicPr/>
          <p:nvPr/>
        </p:nvPicPr>
        <p:blipFill>
          <a:blip r:embed="rId1"/>
          <a:stretch/>
        </p:blipFill>
        <p:spPr>
          <a:xfrm>
            <a:off x="7524720" y="4437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"/>
          <p:cNvSpPr/>
          <p:nvPr/>
        </p:nvSpPr>
        <p:spPr>
          <a:xfrm>
            <a:off x="382680" y="414360"/>
            <a:ext cx="6205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редметы оживля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х их в дело вовлек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м ДЕЛАТЬ говор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го сам за тем след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три времени име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спрягаться он ум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ям строят много шко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 все знали про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8" descr="mult59"/>
          <p:cNvPicPr/>
          <p:nvPr/>
        </p:nvPicPr>
        <p:blipFill>
          <a:blip r:embed="rId2"/>
          <a:srcRect l="16963" t="0" r="24002" b="0"/>
          <a:stretch/>
        </p:blipFill>
        <p:spPr>
          <a:xfrm>
            <a:off x="6254640" y="1963800"/>
            <a:ext cx="2889360" cy="48942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7"/>
          <p:cNvSpPr/>
          <p:nvPr/>
        </p:nvSpPr>
        <p:spPr>
          <a:xfrm>
            <a:off x="382680" y="5246640"/>
            <a:ext cx="534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Глаг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5387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07.mp3" descr=""/>
          <p:cNvPicPr/>
          <p:nvPr/>
        </p:nvPicPr>
        <p:blipFill>
          <a:blip r:embed="rId1"/>
          <a:stretch/>
        </p:blipFill>
        <p:spPr>
          <a:xfrm>
            <a:off x="7524720" y="4437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1"/>
          <p:cNvSpPr/>
          <p:nvPr/>
        </p:nvSpPr>
        <p:spPr>
          <a:xfrm>
            <a:off x="382680" y="414360"/>
            <a:ext cx="6781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удожницу нашу знает весь с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асит художница всякий предм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ит всегда на вопросы так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? КАКАЯ? КАКОЕ? КАК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апой Существите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ёт на редкость друж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ит оконча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ему так ну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с ним не расстан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гда уж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т с ним в одном ро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е и паде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8" descr="mult59"/>
          <p:cNvPicPr/>
          <p:nvPr/>
        </p:nvPicPr>
        <p:blipFill>
          <a:blip r:embed="rId2"/>
          <a:srcRect l="16963" t="0" r="24002" b="0"/>
          <a:stretch/>
        </p:blipFill>
        <p:spPr>
          <a:xfrm>
            <a:off x="6254640" y="1963800"/>
            <a:ext cx="2889360" cy="48942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7"/>
          <p:cNvSpPr/>
          <p:nvPr/>
        </p:nvSpPr>
        <p:spPr>
          <a:xfrm>
            <a:off x="382680" y="5877000"/>
            <a:ext cx="534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Имя прилагательн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5387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07.mp3" descr=""/>
          <p:cNvPicPr/>
          <p:nvPr/>
        </p:nvPicPr>
        <p:blipFill>
          <a:blip r:embed="rId1"/>
          <a:stretch/>
        </p:blipFill>
        <p:spPr>
          <a:xfrm>
            <a:off x="7524720" y="4437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1"/>
          <p:cNvSpPr/>
          <p:nvPr/>
        </p:nvSpPr>
        <p:spPr>
          <a:xfrm>
            <a:off x="382680" y="414360"/>
            <a:ext cx="6781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стро предметы оно сосчит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гий порядок при счёте их зн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два вопроса ответит вам толь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вопросы КОТОРЫЙ? и СКОЛЬК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фры частенько его заменяю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ди его в устной речи склоняю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 при этом они ошибаю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его звать, кто скорей догада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8" descr="mult59"/>
          <p:cNvPicPr/>
          <p:nvPr/>
        </p:nvPicPr>
        <p:blipFill>
          <a:blip r:embed="rId2"/>
          <a:srcRect l="16963" t="0" r="24002" b="0"/>
          <a:stretch/>
        </p:blipFill>
        <p:spPr>
          <a:xfrm>
            <a:off x="6254640" y="1963800"/>
            <a:ext cx="2889360" cy="48942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382680" y="4630680"/>
            <a:ext cx="534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Имя числительн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538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07.mp3" descr=""/>
          <p:cNvPicPr/>
          <p:nvPr/>
        </p:nvPicPr>
        <p:blipFill>
          <a:blip r:embed="rId1"/>
          <a:stretch/>
        </p:blipFill>
        <p:spPr>
          <a:xfrm>
            <a:off x="7524720" y="4437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"/>
          <p:cNvSpPr/>
          <p:nvPr/>
        </p:nvSpPr>
        <p:spPr>
          <a:xfrm>
            <a:off x="382680" y="414360"/>
            <a:ext cx="6781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знаки действий оно означ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м любопытным оно отвеча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? и КОГДА? ПОЧЕМУ? ОТЧ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? и КУДА же? ЗАЧЕМ? ДЛЯ Ч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не любит оно изменя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 не имеет, не хочет склоня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его имя, скорее ответь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8" descr="mult59"/>
          <p:cNvPicPr/>
          <p:nvPr/>
        </p:nvPicPr>
        <p:blipFill>
          <a:blip r:embed="rId2"/>
          <a:srcRect l="16963" t="0" r="24002" b="0"/>
          <a:stretch/>
        </p:blipFill>
        <p:spPr>
          <a:xfrm>
            <a:off x="6254640" y="1963800"/>
            <a:ext cx="2889360" cy="48942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7"/>
          <p:cNvSpPr/>
          <p:nvPr/>
        </p:nvSpPr>
        <p:spPr>
          <a:xfrm>
            <a:off x="382680" y="4630680"/>
            <a:ext cx="534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Нареч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5387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07.mp3" descr=""/>
          <p:cNvPicPr/>
          <p:nvPr/>
        </p:nvPicPr>
        <p:blipFill>
          <a:blip r:embed="rId1"/>
          <a:stretch/>
        </p:blipFill>
        <p:spPr>
          <a:xfrm>
            <a:off x="7524720" y="4437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1"/>
          <p:cNvSpPr/>
          <p:nvPr/>
        </p:nvSpPr>
        <p:spPr>
          <a:xfrm>
            <a:off x="382680" y="414360"/>
            <a:ext cx="6781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яем все мы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сто имени предме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сто признака предм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яем тоже эт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количество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няет часто э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м на всё оно укаж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имён ничьих не ска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 очень применя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ьно очень из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него, как ни крути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чи нам не обойт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8" descr="mult59"/>
          <p:cNvPicPr/>
          <p:nvPr/>
        </p:nvPicPr>
        <p:blipFill>
          <a:blip r:embed="rId2"/>
          <a:srcRect l="16963" t="0" r="24002" b="0"/>
          <a:stretch/>
        </p:blipFill>
        <p:spPr>
          <a:xfrm>
            <a:off x="6254640" y="1963800"/>
            <a:ext cx="2889360" cy="48942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5"/>
          <p:cNvSpPr/>
          <p:nvPr/>
        </p:nvSpPr>
        <p:spPr>
          <a:xfrm>
            <a:off x="5148360" y="414360"/>
            <a:ext cx="361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Местоим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5387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1:46:25Z</dcterms:created>
  <dc:creator>Nataliya</dc:creator>
  <dc:description/>
  <dc:language>en-US</dc:language>
  <cp:lastModifiedBy>RePack by Diakov</cp:lastModifiedBy>
  <dcterms:modified xsi:type="dcterms:W3CDTF">2018-10-21T11:13:26Z</dcterms:modified>
  <cp:revision>23</cp:revision>
  <dc:subject/>
  <dc:title>Слайд 1</dc:title>
</cp:coreProperties>
</file>