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4F5EC-0D30-4C73-8390-D7190718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7530-CAA4-470D-B14C-3E52B18E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8790-BC9B-4C51-9A0B-CA6CC399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7245-9B98-46B1-A1AD-3CF479DB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414D-A644-4B82-B033-6CFB3A6E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EF76-02B5-49CC-9E79-0542E2A7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CCDE-CBF8-4472-A60F-BAF28C82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8414-C26B-475D-9B16-3E068370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7B8B-3057-49AA-BF1B-B84F992D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B3A8-9A80-4382-9DF6-EB3C933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8993-3FAD-4408-B0E2-C25C3D1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522C-1DAF-4A0A-808D-1B9DF695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F7A5-0B2D-4F00-A493-28CAF6AA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9FD8-16D1-42A2-A146-254716D1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24DD-D9E9-4E71-B9AF-87DDB27E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660C-6D2F-4F99-B436-D7E65EEA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358D-04E8-431F-B89C-DE691377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6997-E5B8-4FC5-B85D-20F6D3C7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A637-5C0F-463C-8371-9E76ADDD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8787-F9FC-4D53-B7A1-03C90D7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57F1-88FA-42BC-9929-0F143C8F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CC85-CA99-4CED-9A1B-EB332212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7803-6CF5-4EC8-8CB1-47AB79C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6E39-5E2C-4FF5-85B2-76F226BB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E032-5633-44AB-A0B7-989E0CEBA32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748D-376E-413F-B65A-6EBD7374BD0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4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248520" y="22860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14479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98960" cy="487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14600" y="0"/>
            <a:ext cx="3048120" cy="1486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599080" y="2362320"/>
            <a:ext cx="3544920" cy="4495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267080" y="2743200"/>
            <a:ext cx="26672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99072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9600" spc="-1" strike="noStrike">
                <a:solidFill>
                  <a:srgbClr val="ffffff"/>
                </a:solidFill>
                <a:latin typeface="Tahoma"/>
              </a:rPr>
              <a:t>An apple a day keeps the doctor away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05120" y="3809880"/>
            <a:ext cx="5486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ahoma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ahoma"/>
              </a:rPr>
              <a:t>GOODBYE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609480"/>
            <a:ext cx="8839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ebf25a"/>
                </a:solidFill>
                <a:uFillTx/>
                <a:latin typeface="Tahoma"/>
              </a:rPr>
              <a:t>Hometask</a:t>
            </a:r>
            <a:r>
              <a:rPr b="1" i="1" lang="ru-RU" sz="6600" spc="-1" strike="noStrike" u="sng">
                <a:solidFill>
                  <a:srgbClr val="ebf25a"/>
                </a:solidFill>
                <a:uFillTx/>
                <a:latin typeface="Tahoma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f25a"/>
                </a:solidFill>
                <a:latin typeface="Tahoma"/>
              </a:rPr>
              <a:t>St.b. ex.1 – </a:t>
            </a:r>
            <a:r>
              <a:rPr b="0" lang="ru-RU" sz="6600" spc="-1" strike="noStrike">
                <a:solidFill>
                  <a:srgbClr val="ebf25a"/>
                </a:solidFill>
                <a:latin typeface="Tahoma"/>
              </a:rPr>
              <a:t>наизусть</a:t>
            </a:r>
            <a:r>
              <a:rPr b="0" lang="en-US" sz="6600" spc="-1" strike="noStrike">
                <a:solidFill>
                  <a:srgbClr val="ebf25a"/>
                </a:solidFill>
                <a:latin typeface="Tahoma"/>
              </a:rPr>
              <a:t>,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f25a"/>
                </a:solidFill>
                <a:latin typeface="Tahoma"/>
              </a:rPr>
              <a:t>W.b. ex5 p. 23</a:t>
            </a:r>
            <a:r>
              <a:rPr b="0" lang="en-US" sz="72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8381880" cy="77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Ii                                   [ai]        [i]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 like white       His little  mice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they're      sister is                           very nice.               six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360" y="1676520"/>
            <a:ext cx="990360" cy="609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1676520"/>
            <a:ext cx="1066680" cy="533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f25a"/>
                </a:solidFill>
                <a:latin typeface="Tahoma"/>
              </a:rPr>
              <a:t>I usually have for breakfast …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74176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f25a"/>
                </a:solidFill>
                <a:latin typeface="Tahoma"/>
              </a:rPr>
              <a:t>I would like to have for  breakfast…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a</cp:lastModifiedBy>
  <dcterms:modified xsi:type="dcterms:W3CDTF">2010-06-17T18:14:4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