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DB9E-7BD4-432D-B4E7-2C3415ECA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3156-3C6B-45CB-810E-27EAC111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6730-7596-4A0F-A43A-A8E53D474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6E1D-208E-43B4-B7CA-33C883F0A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06F0-7706-401D-94BB-57EFCC6B8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FB79-A72A-495D-AF6C-0226CBB1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855B-0BEE-4D6B-9B05-3AD966BC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20951-DB95-443A-8CAA-4E2F6141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4E9C-6B4E-482F-A042-05CD177D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5D96-D7F9-406E-AF5C-A75982F3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2461-BD7A-4C9E-99DE-3B3D578F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7F09-E73E-4997-9628-F47C365AB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C57C-3844-484A-82DE-319BFAA4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6DCC-21A8-475E-9040-A83B9B70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9F59-A3EC-4651-AD21-935C3456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0F78-EF45-4ED9-ACAB-AC526FB32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3702-F4FE-45E8-879F-832497D6F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7D6B-B098-4EA2-A8AC-F0E3D7CF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9524-2CB4-4C57-A4BF-C9DBC31C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1EAE-C9BB-4A4C-938C-9F934EBD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CAF5-5258-4871-A777-55745A52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9441-6033-4675-B4BF-C148CE8B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C5DB-6A07-4E1C-9368-BA27068A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7D7E-5D41-4184-A53C-A47F0FD2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40C4-FADD-4E9F-B253-E3A798FC8945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D483-2398-438C-A373-CB8387282D66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920" y="554760"/>
            <a:ext cx="864216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10920" y="1699920"/>
            <a:ext cx="7777080" cy="4105080"/>
          </a:xfrm>
          <a:prstGeom prst="rect">
            <a:avLst/>
          </a:prstGeom>
          <a:solidFill>
            <a:srgbClr val="0070c0"/>
          </a:solidFill>
          <a:ln w="76320">
            <a:solidFill>
              <a:srgbClr val="00206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Строгое пространство чисел в волшебном мире музыкальных звуков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353880" y="804960"/>
            <a:ext cx="883296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1"/>
          <a:stretch/>
        </p:blipFill>
        <p:spPr>
          <a:xfrm>
            <a:off x="133200" y="1743120"/>
            <a:ext cx="916956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26960" y="865080"/>
            <a:ext cx="832032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396720" y="792000"/>
            <a:ext cx="862488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08T17:17:35Z</dcterms:created>
  <dc:creator>Admin</dc:creator>
  <dc:description/>
  <dc:language>en-US</dc:language>
  <cp:lastModifiedBy>Admin</cp:lastModifiedBy>
  <dcterms:modified xsi:type="dcterms:W3CDTF">2019-11-08T19:29:42Z</dcterms:modified>
  <cp:revision>8</cp:revision>
  <dc:subject/>
  <dc:title>Строгое пространство чисел в волшебном мире музыкальных звуков</dc:title>
</cp:coreProperties>
</file>