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E7E-F586-4BDC-8F1F-8534A385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EA7-DE47-42E5-975E-E1233A56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BAA-D69D-4239-B87B-87C4ACE7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0C0-EA71-40D1-A3FA-9E755E7D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CBCF-3F16-40B5-B537-5B05D391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51E2-4847-4768-B24F-DDBF32A8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403-C5C2-41C1-A00D-82094A7F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7483-1412-436D-A17D-ACEB7293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92DB-4B41-404A-AFCE-53425E17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5212-54C5-4AFF-8958-C69FE6D7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8F3-ACC3-4180-A227-A884A12F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05E-4D70-4260-AAF7-179B7BCC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31D3-77BF-4528-A398-8CF5BD88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6E7C-CF4C-4F90-995C-0FFB4B6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4234-5353-496F-8954-EDB0366F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702E-413A-49FD-9524-A75D279B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0770-822F-4ACB-8C96-5B4CAE34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3A7-2974-44EE-8A7D-CC7B2F3A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0D7-192E-4040-AD73-F6D02620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D5C-5D3D-42BE-B2C6-C4492DA0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3DA-2A65-409E-AF14-A5424869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37D-189F-467E-8752-7CB36BEE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5BF-3159-413E-85D9-871D47D6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3FC-30E6-452F-9D50-C385F9D0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CD92-8531-4C99-AB03-45C8F4AC15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3223-7197-490B-B4E4-41C4822114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1720" y="1356840"/>
            <a:ext cx="76197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</a:rPr>
              <a:t>Двоеточие в бессоюзном сложном предложении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571760" y="78588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1214280" y="857160"/>
            <a:ext cx="7143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Сегодня я узнал(а)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Было интересно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Было трудно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Я понял(а)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Теперь я могу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Я работал на уроке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676520" y="533520"/>
            <a:ext cx="6095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Спасибо за работу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1828800" y="449568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    свидания!</a:t>
            </a:r>
            <a:endParaRPr b="0" lang="en-US" sz="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4" descr="клип0005"/>
          <p:cNvPicPr/>
          <p:nvPr/>
        </p:nvPicPr>
        <p:blipFill>
          <a:blip r:embed="rId1"/>
          <a:stretch/>
        </p:blipFill>
        <p:spPr>
          <a:xfrm>
            <a:off x="4419720" y="2286000"/>
            <a:ext cx="12952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71720" y="356760"/>
            <a:ext cx="7858080" cy="69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има!.. Крестьянин торжеству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ровнях обновляет путь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лошадка снег почуя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етется рысью как-нибудь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азды пушистые взрывая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тит кибитка удалая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мщик сидит на облучк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улупе в красном кушаке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бегает дворовый мальчик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алазки жучку посади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бя в коня преобразив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алун уж заморозил пальчик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му и больно и смешно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мать грозит ему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71720" y="357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има!.. Крестьянин, торжествуя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ровнях обновляет путь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лошадка, снег почуя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етется рысью как-нибудь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азды пушистые взрывая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тит кибитка удалая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мщик сидит на облучк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улупе, в красном кушаке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бегает дворовый мальчик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алазки жучку посадив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бя в коня преобразив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алун уж заморозил пальчик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му и больно и смешно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мать грозит ему в ок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1) а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2) б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3) а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4) б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5) б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428920" y="50004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Times New Roman"/>
              </a:rPr>
              <a:t>Клю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1071720" y="714240"/>
            <a:ext cx="7643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Мы знаем, что главное предназначение человека- оставить свой добрый след на земл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2) Добрые деяния никогда не следует откладывать, потому что всякая проволочка неблагоразумна и часто опас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3) Я знаю, что чудеса на белом свете случаю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Осмыс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Усвоение 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Отработка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ецифики БСП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а постано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оеточия в БС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й конструировать БСП  и правильно объяснять постановку двоеточ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914400" y="380880"/>
            <a:ext cx="7620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071720" y="363600"/>
            <a:ext cx="7715160" cy="73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Мы знаем: главное предназначение человека- оставить свой добрый след на земл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[      ]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[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ояснение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]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) Добрые деяния никогда не следует откладывать: всякая проволочка неблагоразумна и часто опас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[      ]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[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а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]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) Я знаю: чудеса на белом свете случаю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[      ]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[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дополнение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]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16000" y="54936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-1836720" y="981000"/>
            <a:ext cx="1836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8656560" y="6164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1214280" y="28584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Проверка по эталон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000080" y="928800"/>
            <a:ext cx="771516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ердце Марии колотилось, руки дрож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Из-за перегородки пахло жареной картошкой, шумел у шестка самова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н не помнил, как это случилось: машина его почти мгновенно набрала скор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Мне повезло: почти сразу я нашел нужную улиц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олнце было огромным и ярким: снега искрились вокр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ечка накалилась: стало тепло, можно было разде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Ему кажется, он спит у костра: повернешься одним боком,  холодно друг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Я был в совершенно непонятном состоянии: в голове образовалась путани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ут Полина ахнула: это же почки березовые распуска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428920" y="642960"/>
            <a:ext cx="50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</a:rPr>
              <a:t>Клю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000160" y="2000160"/>
            <a:ext cx="5715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1.</a:t>
            </a:r>
            <a:r>
              <a:rPr b="0" lang="ru-RU" sz="4800" spc="-1" strike="noStrike">
                <a:solidFill>
                  <a:srgbClr val="5d3cea"/>
                </a:solidFill>
                <a:latin typeface="Times New Roman"/>
              </a:rPr>
              <a:t>2,3,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2. </a:t>
            </a:r>
            <a:r>
              <a:rPr b="0" lang="ru-RU" sz="4800" spc="-1" strike="noStrike">
                <a:solidFill>
                  <a:srgbClr val="5d3cea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3.</a:t>
            </a:r>
            <a:r>
              <a:rPr b="0" lang="ru-RU" sz="4800" spc="-1" strike="noStrike">
                <a:solidFill>
                  <a:srgbClr val="5d3cea"/>
                </a:solidFill>
                <a:latin typeface="Times New Roman"/>
              </a:rPr>
              <a:t>1,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4.</a:t>
            </a:r>
            <a:r>
              <a:rPr b="0" lang="ru-RU" sz="4800" spc="-1" strike="noStrike">
                <a:solidFill>
                  <a:srgbClr val="5d3cea"/>
                </a:solidFill>
                <a:latin typeface="Times New Roman"/>
              </a:rPr>
              <a:t>1,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11T18:40:54Z</dcterms:modified>
  <cp:revision>35</cp:revision>
  <dc:subject/>
  <dc:title>PowerPoint Presentation</dc:title>
</cp:coreProperties>
</file>